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B2E0D-2B94-43AE-9716-AE3962462218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CE882-F7FA-4A31-821A-8AA893D3B157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FAE8E-E069-4923-BF5D-56AAE75942D8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9A05E-5D97-428A-87E3-F9AC0F738F53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82B4A-103C-4E72-B1D8-16F8D32E6FBD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3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E515C-9D79-4594-8349-4F3B50E94CA2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F8379-A8C1-4EDE-B711-617F2443D022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389B7-5989-4AF0-A28C-72AD00A19724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7EA44-874F-41FD-8913-0951D773E851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08749-F2B9-43FD-B84A-D32A9B3E00DD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9782A-55F1-48F7-86D4-E299D3575CA7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23C60-BF08-4298-85BF-73E4A3A267F4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A524F-BC0E-48D3-BE38-5782AD645164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A8DA8-8C46-45FC-8579-D40D1D4AD307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38C08-2809-4D90-A6BE-CD1C46E052E4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41A25-5357-44B7-B8B8-B49007FC14C3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EE8947-A750-4BA2-A175-D28F9907DF18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28295-7B3C-4B8D-8842-D130A2FD154A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9D6A20-B4AF-43D2-BE29-2319CEA58BD8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BB47D-E826-46D0-AFF1-DA93C95D4BC4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4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7"/>
          <p:cNvSpPr/>
          <p:nvPr/>
        </p:nvSpPr>
        <p:spPr>
          <a:xfrm>
            <a:off x="0" y="4281480"/>
            <a:ext cx="12192120" cy="25765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 flipH="1">
            <a:off x="11139120" y="6197760"/>
            <a:ext cx="34308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" descr=""/>
          <p:cNvPicPr/>
          <p:nvPr/>
        </p:nvPicPr>
        <p:blipFill>
          <a:blip r:embed="rId5"/>
          <a:stretch/>
        </p:blipFill>
        <p:spPr>
          <a:xfrm>
            <a:off x="490680" y="4938840"/>
            <a:ext cx="3284280" cy="59688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 flipH="1">
            <a:off x="5746320" y="25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 flipH="1">
            <a:off x="-3600" y="1844640"/>
            <a:ext cx="7002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 flipH="1">
            <a:off x="11495160" y="4626000"/>
            <a:ext cx="69984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drive.google.com/drive/folders/1CWhn1jsJIbToFIoX1KyRSJCPtbAHp5Dd?usp=sharin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formatizacia.sk/Aktu&#225;lne%20v&#253;zvy/26920s" TargetMode="External"/><Relationship Id="rId2" Type="http://schemas.openxmlformats.org/officeDocument/2006/relationships/hyperlink" Target="http://www.informatizacia.sk/ext_dok-dv_opii_2018_7_3_manazment_udajov_final/27097c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reeform 1"/>
          <p:cNvSpPr/>
          <p:nvPr/>
        </p:nvSpPr>
        <p:spPr>
          <a:xfrm>
            <a:off x="7272360" y="4867200"/>
            <a:ext cx="4235400" cy="37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64000"/>
          </a:bodyPr>
          <a:p>
            <a:pPr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sap"/>
              </a:rPr>
              <a:t>Dátoví kurátori 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"/>
          <p:cNvSpPr/>
          <p:nvPr/>
        </p:nvSpPr>
        <p:spPr>
          <a:xfrm>
            <a:off x="7272360" y="5251320"/>
            <a:ext cx="4235400" cy="37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3000"/>
          </a:bodyPr>
          <a:p>
            <a:pPr marL="2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808080"/>
                </a:solidFill>
                <a:latin typeface="Asap"/>
              </a:rPr>
              <a:t>11.12.2018 – 11: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3"/>
          <p:cNvSpPr/>
          <p:nvPr/>
        </p:nvSpPr>
        <p:spPr>
          <a:xfrm>
            <a:off x="7272360" y="5630760"/>
            <a:ext cx="4235400" cy="37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2000"/>
          </a:bodyPr>
          <a:p>
            <a:pPr marL="2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808080"/>
                </a:solidFill>
                <a:latin typeface="Asap"/>
              </a:rPr>
              <a:t>ÚSVROS/ Cukrová 14 Bratisl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rázok 1" descr=""/>
          <p:cNvPicPr/>
          <p:nvPr/>
        </p:nvPicPr>
        <p:blipFill>
          <a:blip r:embed="rId1"/>
          <a:stretch/>
        </p:blipFill>
        <p:spPr>
          <a:xfrm>
            <a:off x="4008600" y="4653000"/>
            <a:ext cx="2612880" cy="16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fungovanie tejto neformálnej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Ďalšie stretnutie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– už pracovné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15.01.2019 – </a:t>
            </a:r>
            <a:r>
              <a:rPr b="0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miesto a čas upresním v pozván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 druhého stretnutia (3 tém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Popis práce, kompetencií,... Dátového kurá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Základný materiá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https://docs.google.com/document/d/1EYoBdLyICHmVVDI5ftjFs-SMyTicWMOcwwzRFuaYbvA/edit#heading=h.gjdgx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AutoNum type="arabicPeriod" startAt="2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Predstavenie dopytovej výzvy na manažment dát – 2. k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AutoNum type="arabicPeriod" startAt="2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Riešenie prioritných otázok/ úloh z uznesení vlády 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základné informácie + aktualizácia kontak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oboznámenie so skupinou K 9.4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dopytové výzvy - plán, ú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plnenie úloh 3 strategických dokumen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fungovanie tejto neformálnej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Obrázok 1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2"/>
          <p:cNvSpPr/>
          <p:nvPr/>
        </p:nvSpPr>
        <p:spPr>
          <a:xfrm>
            <a:off x="2525760" y="28728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základné informácie + aktualizácia kontakto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 neformálna skupina, ktorá združuje dátových kurátorov 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 vzájomná pomoc a výmena skúseností pri plnení úloh strategických dokumentov (ÚPPVII, ÚSVROS, NASES,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 tvorba požiadaviek voči iným PS a voči Zákonu o dát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dieľaný fol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drive.google.com/drive/folders/1CWhn1jsJIbToFIoX1KyRSJCPtbAHp5Dd?usp=sharing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Obrázok 3" descr=""/>
          <p:cNvPicPr/>
          <p:nvPr/>
        </p:nvPicPr>
        <p:blipFill>
          <a:blip r:embed="rId2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"/>
          <p:cNvSpPr/>
          <p:nvPr/>
        </p:nvSpPr>
        <p:spPr>
          <a:xfrm>
            <a:off x="2525760" y="28728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  <p:pic>
        <p:nvPicPr>
          <p:cNvPr id="116" name="Obrázok 2" descr=""/>
          <p:cNvPicPr/>
          <p:nvPr/>
        </p:nvPicPr>
        <p:blipFill>
          <a:blip r:embed="rId2"/>
          <a:stretch/>
        </p:blipFill>
        <p:spPr>
          <a:xfrm>
            <a:off x="1743120" y="0"/>
            <a:ext cx="8458200" cy="63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2"/>
          <p:cNvSpPr/>
          <p:nvPr/>
        </p:nvSpPr>
        <p:spPr>
          <a:xfrm>
            <a:off x="2143080" y="434880"/>
            <a:ext cx="899496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9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oboznámenie so skupinou K 9.4 Lepšie dá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- poradná skupina ÚPPV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- z verejnej správy, podnikateľského aj neziskového sek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- vytvára podskupin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M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Dopytové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Referenčné údaje / 1* a dos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Big data / analytické využitie d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rive.google.com/drive/folders/1htkLkndUppCv469v6WZFwL7LBK9CUj9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7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ávrh zákona má byť predložený do 31.12.2019 na rokovanie vlády SR (úloha AP OG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acovná skupina začína činnosť v januári 2019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rive.google.com/drive/folders/18U3D3JPxYdGNz0qdEKCdubFGHs7Xmt4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vaše vstupy? 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4n3B0vFrFVi4dbcOloAHdgK9px5v6vCYqdFjY8Uw9bE/edit#gi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9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dopytové výzvy - plán, úpra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* Dopytová výzva na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manažment údajo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vé kolo uzávierka 14.12.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ruhé kolo uzávierka 14.03.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informatizacia.sk/Aktu%C3%A1lne%20v%C3%BDzvy/26920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informatizacia.sk/ext_dok-dv_opii_2018_7_3_manazment_udajov_final/27097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* príprava ďalších výziev v oblasti dá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a využitie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ok 3" descr=""/>
          <p:cNvPicPr/>
          <p:nvPr/>
        </p:nvPicPr>
        <p:blipFill>
          <a:blip r:embed="rId3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2079720" y="1549440"/>
            <a:ext cx="803268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9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plnenie úloh 3 strategických dokumen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KIVS, OGP, Stratégia... + in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u ktorým potrebujete poradiť, usmerniť,..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LAgioFdZMFZMXaY05rJ0hCFxkoRiYjmVrFZv5nUz-Ho/edit#gi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ehľad neuzavretých úlo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kEw4NZtOMTDsxQ7-lRSXi9mfAA7teKHIUtLhZTkC16I/edit#gi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ázok 4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fungovanie tejto neformálnej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avidelnosť stretnutí?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– raz za 3 mesi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nline zdieľanie informácií –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dočasne horeuvádzaný Drive s cieľom online kolaborácie, kým Dátová kancelária nespustí svoju webstránku (predpoklad 1/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ontaktná osoba: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Milan Andrejkovi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lan Andrejkovič</dc:creator>
  <dc:description/>
  <dc:language>en-US</dc:language>
  <cp:lastModifiedBy>Milan Andrejkovič</cp:lastModifiedBy>
  <dcterms:modified xsi:type="dcterms:W3CDTF">2018-12-12T08:21:14Z</dcterms:modified>
  <cp:revision>8</cp:revision>
  <dc:subject/>
  <dc:title>Prezentácia programu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dlc_DocId">
    <vt:lpwstr>CTYWSUCD3UHA-699772915-131</vt:lpwstr>
  </property>
  <property fmtid="{D5CDD505-2E9C-101B-9397-08002B2CF9AE}" pid="3" name="_dlc_DocIdItemGuid">
    <vt:lpwstr>ef4e5afc-8b0e-42f9-9081-e35c73d5bfca</vt:lpwstr>
  </property>
  <property fmtid="{D5CDD505-2E9C-101B-9397-08002B2CF9AE}" pid="4" name="_dlc_DocIdUrl">
    <vt:lpwstr>https://sp.finance.gov.sk/lepsie-data/_layouts/15/DocIdRedir.aspx?ID=CTYWSUCD3UHA-699772915-131, CTYWSUCD3UHA-699772915-131</vt:lpwstr>
  </property>
</Properties>
</file>