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098E5-8D8C-4652-865E-0729BF3F1A9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0089C-8187-493E-9DF5-58B7D1A159B8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DED62-F00E-44C3-A385-72FB953B4FDD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A9881-8148-4716-BE7B-E2CE30CE7FE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14B6F-DDC8-4249-AD5B-6769A694A587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4E37E-21CE-4068-97B2-6E8E1022E28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B8ED7-1E52-4AA7-A9AD-A7288C942C05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83AC3-4C82-4CB4-87E7-C35477D21ED1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E9E15-6B7D-4649-95A6-A5D2E6F7EC06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4FAD3-68F7-493C-9618-5036E668D33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1192-3C77-449D-9ED7-38466AAE8CE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3E8CB-48E5-473D-BF8C-91F06A6F63CC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61BFC-F4F5-4E7B-8D93-382AB0C402B3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7DCF1-423E-49F4-AE63-6C44F4729832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2E087-AF25-4565-8C3D-87B4117454E0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343AB-9B6A-4A73-8296-83E0F0A071ED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958DA-775C-4B13-8C10-04D40FB0B76E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0947F-B35B-4024-9D4B-2222A153B596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F1A60-44A6-40F9-A3F6-4FEB8C673A54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2"/>
          <p:cNvSpPr/>
          <p:nvPr/>
        </p:nvSpPr>
        <p:spPr>
          <a:xfrm>
            <a:off x="3884760" y="8685360"/>
            <a:ext cx="2971800" cy="458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EB448-5C66-40F5-9B8F-76FA3C44227F}" type="slidenum">
              <a:rPr b="0" lang="sk-SK" sz="1800" spc="-1" strike="noStrike">
                <a:solidFill>
                  <a:srgbClr val="263c8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28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8720" y="16048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28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8720" y="396828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1600" y="39682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600" y="160488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828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7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rive.google.com/drive/folders/1CWhn1jsJIbToFIoX1KyRSJCPtbAHp5Dd?usp=shari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formatizacia.sk/Aktu&#225;lne%20v&#253;zvy/26920s" TargetMode="External"/><Relationship Id="rId2" Type="http://schemas.openxmlformats.org/officeDocument/2006/relationships/hyperlink" Target="http://www.informatizacia.sk/ext_dok-dv_opii_2018_7_3_manazment_udajov_final/27097c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1"/>
          <p:cNvSpPr/>
          <p:nvPr/>
        </p:nvSpPr>
        <p:spPr>
          <a:xfrm>
            <a:off x="7272360" y="486720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64000"/>
          </a:bodyPr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sap"/>
              </a:rPr>
              <a:t>Dátoví kurátori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"/>
          <p:cNvSpPr/>
          <p:nvPr/>
        </p:nvSpPr>
        <p:spPr>
          <a:xfrm>
            <a:off x="7272360" y="525132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3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11.12.2018 – 11: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7272360" y="5630760"/>
            <a:ext cx="4235400" cy="371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2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808080"/>
                </a:solidFill>
                <a:latin typeface="Asap"/>
              </a:rPr>
              <a:t>ÚSVROS/ Cukrová 14 Bratisl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rázok 1" descr=""/>
          <p:cNvPicPr/>
          <p:nvPr/>
        </p:nvPicPr>
        <p:blipFill>
          <a:blip r:embed="rId1"/>
          <a:stretch/>
        </p:blipFill>
        <p:spPr>
          <a:xfrm>
            <a:off x="4008600" y="4653000"/>
            <a:ext cx="26128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už pracovn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15.01.2019 – </a:t>
            </a:r>
            <a:r>
              <a:rPr b="0" lang="sk-SK" sz="2400" spc="-1" strike="noStrike" u="sng">
                <a:solidFill>
                  <a:srgbClr val="ffff00"/>
                </a:solidFill>
                <a:uFillTx/>
                <a:latin typeface="Arial"/>
              </a:rPr>
              <a:t>miesto a čas upresním v pozván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 druhého stretnutia (3 tém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opis práce, kompetencií,... Dátového kurá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Základný materiá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https://docs.google.com/document/d/1EYoBdLyICHmVVDI5ftjFs-SMyTicWMOcwwzRFuaYbvA/edit#heading=h.gjdgx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Predstavenie dopytovej výzvy na manažment dát – 2. k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AutoNum type="arabicPeriod" startAt="2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Arial"/>
              </a:rPr>
              <a:t>Riešenie prioritných otázok/ úloh z uznesení vlády 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040">
              <a:lnSpc>
                <a:spcPct val="93000"/>
              </a:lnSpc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rázok 1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základné informácie + aktualizácia kontak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neformálna skupina, ktorá združuje dátových kurátorov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vzájomná pomoc a výmena skúseností pri plnení úloh strategických dokumentov (ÚPPVII, ÚSVROS, NASES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 tvorba požiadaviek voči iným PS a voči Zákonu o dá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dieľaný fol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drive.google.com/drive/folders/1CWhn1jsJIbToFIoX1KyRSJCPtbAHp5Dd?usp=sharing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ázok 3" descr=""/>
          <p:cNvPicPr/>
          <p:nvPr/>
        </p:nvPicPr>
        <p:blipFill>
          <a:blip r:embed="rId2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"/>
          <p:cNvSpPr/>
          <p:nvPr/>
        </p:nvSpPr>
        <p:spPr>
          <a:xfrm>
            <a:off x="2525760" y="28728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  <p:pic>
        <p:nvPicPr>
          <p:cNvPr id="116" name="Obrázok 2" descr=""/>
          <p:cNvPicPr/>
          <p:nvPr/>
        </p:nvPicPr>
        <p:blipFill>
          <a:blip r:embed="rId2"/>
          <a:stretch/>
        </p:blipFill>
        <p:spPr>
          <a:xfrm>
            <a:off x="1743120" y="0"/>
            <a:ext cx="8458200" cy="63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"/>
          <p:cNvSpPr/>
          <p:nvPr/>
        </p:nvSpPr>
        <p:spPr>
          <a:xfrm>
            <a:off x="2143080" y="434880"/>
            <a:ext cx="899496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oboznámenie so skupinou K 9.4 Lepšie dá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poradná skupina ÚPP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z verejnej správy, podnikateľského aj neziskového sek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- vytvára podskupi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M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Referenčné údaje / 1* a d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Big data / analytické využitie d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htkLkndUppCv469v6WZFwL7LBK9CUj9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7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Zákon o údaj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ávrh zákona má byť predložený do 31.12.2019 na rokovanie vlády SR (úloha AP O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covná skupina začína činnosť v januári 2019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rive.google.com/drive/folders/18U3D3JPxYdGNz0qdEKCdubFGHs7Xmt4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aše vstupy? -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4n3B0vFrFVi4dbcOloAHdgK9px5v6vCYqdFjY8Uw9bE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dopytové výzvy - plán, úpr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Dopytová výzva na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anažment údaj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vé kolo uzávierka 14.12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ruhé kolo uzávierka 14.03.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informatizacia.sk/Aktu%C3%A1lne%20v%C3%BDzvy/26920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informatizacia.sk/ext_dok-dv_opii_2018_7_3_manazment_udajov_final/27097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* príprava ďalších výziev v oblasti dá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 využitie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ok 3" descr=""/>
          <p:cNvPicPr/>
          <p:nvPr/>
        </p:nvPicPr>
        <p:blipFill>
          <a:blip r:embed="rId3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2079720" y="1549440"/>
            <a:ext cx="80326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 fontScale="99000"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plnenie úloh 3 strategických dokumen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KIVS, OGP, Stratégia... + in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u ktorým potrebujete poradiť, usmerniť,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LAgioFdZMFZMXaY05rJ0hCFxkoRiYjmVrFZv5nUz-Ho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neuzavretých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kEw4NZtOMTDsxQ7-lRSXi9mfAA7teKHIUtLhZTkC16I/edit#gi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rázok 4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014640" y="603360"/>
            <a:ext cx="6162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"/>
          <p:cNvSpPr/>
          <p:nvPr/>
        </p:nvSpPr>
        <p:spPr>
          <a:xfrm>
            <a:off x="2165400" y="446040"/>
            <a:ext cx="8994600" cy="552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rm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 fungovanie tejto neformálnej skup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avidelnosť stretnutí?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– raz za 3 mesi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nline zdieľanie informácií –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dočasne horeuvádzaný Drive s cieľom online kolaborácie, kým Dátová kancelária nespustí svoju webstránku (predpoklad 1/20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Kontaktná osoba: </a:t>
            </a:r>
            <a:r>
              <a:rPr b="0" lang="sk-SK" sz="2400" spc="-1" strike="noStrike">
                <a:solidFill>
                  <a:srgbClr val="ffff00"/>
                </a:solidFill>
                <a:latin typeface="Arial"/>
              </a:rPr>
              <a:t>Milan Andrejkovi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ázok 3" descr=""/>
          <p:cNvPicPr/>
          <p:nvPr/>
        </p:nvPicPr>
        <p:blipFill>
          <a:blip r:embed="rId1"/>
          <a:stretch/>
        </p:blipFill>
        <p:spPr>
          <a:xfrm>
            <a:off x="10201320" y="0"/>
            <a:ext cx="1992240" cy="126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lan Andrejkovič</dc:creator>
  <dc:description/>
  <dc:language>en-US</dc:language>
  <cp:lastModifiedBy>Milan Andrejkovič</cp:lastModifiedBy>
  <dcterms:modified xsi:type="dcterms:W3CDTF">2018-12-12T08:21:14Z</dcterms:modified>
  <cp:revision>8</cp:revision>
  <dc:subject/>
  <dc:title>Prezentácia programu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1</vt:lpwstr>
  </property>
  <property fmtid="{D5CDD505-2E9C-101B-9397-08002B2CF9AE}" pid="3" name="_dlc_DocIdItemGuid">
    <vt:lpwstr>ef4e5afc-8b0e-42f9-9081-e35c73d5bfca</vt:lpwstr>
  </property>
  <property fmtid="{D5CDD505-2E9C-101B-9397-08002B2CF9AE}" pid="4" name="_dlc_DocIdUrl">
    <vt:lpwstr>https://sp.finance.gov.sk/lepsie-data/_layouts/15/DocIdRedir.aspx?ID=CTYWSUCD3UHA-699772915-131, CTYWSUCD3UHA-699772915-131</vt:lpwstr>
  </property>
</Properties>
</file>