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3BE61-2158-47E5-8D67-A2358D5BA170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21C22-C0AA-455C-B5CB-10B3EC80072F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3E80A-F4D0-420D-9F42-E3A4FDC70C5F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A25EA-22B2-40FB-BA84-10FDCA77E8E7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36F9F-8458-4A04-B0A5-23D9460AAA36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1DF5C-FBE0-4493-BB25-138A396C81AA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0E4C6-19A8-40C3-96DD-633FCAE41027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D9411-63FE-4640-82EB-7CA7261091F2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000" y="4867200"/>
            <a:ext cx="4233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363240"/>
            <a:ext cx="105141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840" y="1276920"/>
            <a:ext cx="709596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440" y="-2269800"/>
            <a:ext cx="7095960" cy="84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6000" y="1276920"/>
            <a:ext cx="709524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1800" y="186696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3960" y="2776680"/>
            <a:ext cx="33984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9720" y="5045040"/>
            <a:ext cx="33984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3680" y="2109960"/>
            <a:ext cx="34750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1800" y="363060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9760" y="1384200"/>
            <a:ext cx="33984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8080" y="5510160"/>
            <a:ext cx="34768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8120" y="6829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280" y="4730760"/>
            <a:ext cx="38768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800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96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4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K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20.11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 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Rekapitulácia posledného vývoja, aktuálny stav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Dátová kancel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Informácia o dopytovej výzve na manažment úda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Dohoda na ďalšom fungovaní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Úloha č. 2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edložiť návrh zákona o údajoch na rokovanie vlá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Zodpovední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a vlády SR pre investície a informatizáciu v spolupráci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níčkou vlády a ministerkou spravodlivos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om vlády a ministrom vnút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edúcim Úradu vlády S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dsedníčkou Úradu geodézie, kartografie a katastra S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plnomocnencom vlády SR pre rozvoj občianskej spoloč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Termín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do 31. decembra 2018 (bude predĺžený do 31.12.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2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81080" y="446040"/>
            <a:ext cx="10080720" cy="68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tup a harmon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ýza súčasného stavu (nov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oblémových oblastí (november-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dotaz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acovných skupín (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riešení (január 2019-apríl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zentácia riešení (máj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ečná kon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finálnych návrhov (máj 2019-jún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egislatívny proces (júl 2019-december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6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36720" y="0"/>
            <a:ext cx="10080360" cy="66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é skupiny budú otvorené a pozostávať 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Verejná 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rezorty (legislatívci, dátoví kurátori, analytické jednot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é OVM, OŠS (ÚOOÚ, Štatistický úrad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Samo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MOS, ÚMS, DEUS,  vybrané mestá a 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dnikateľs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édiá (Trend, Hospodárske novi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iznis (Finstat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Neziskov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Slovensko.Digital, ITAS, SOIT,...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ess, HPI, Ine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ntrum pre filantrop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Akademic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niverz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s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efinícia poj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rčenie kompeten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i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štand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lice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á 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fraštru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GD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ý ku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ytick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muniká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pri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eb stránka ÚPPVII / ÚSV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e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acebook a iné sociálne si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órum slovensko.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rello,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ý bod: 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Vyjadrenie záujmu pracovať v PS Lepšie dáta (+dopln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y na témy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Vyjadrenie záujmu pracovať na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ávrhy na riešenie v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5</vt:lpwstr>
  </property>
  <property fmtid="{D5CDD505-2E9C-101B-9397-08002B2CF9AE}" pid="3" name="_dlc_DocIdItemGuid">
    <vt:lpwstr>3c5fd91d-8cf5-4d58-b3df-68b517b90623</vt:lpwstr>
  </property>
  <property fmtid="{D5CDD505-2E9C-101B-9397-08002B2CF9AE}" pid="4" name="_dlc_DocIdUrl">
    <vt:lpwstr>https://sp.finance.gov.sk/lepsie-data/_layouts/15/DocIdRedir.aspx?ID=CTYWSUCD3UHA-699772915-135, CTYWSUCD3UHA-699772915-135</vt:lpwstr>
  </property>
</Properties>
</file>