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dt" idx="1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2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3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C095CA-EF2A-4563-83A9-1398EC68863E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17DFAC-20C8-44E4-9EC5-A9379209DBAC}" type="slidenum">
              <a:rPr b="0" lang="sk-SK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6200" cy="40082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634B6C-4036-42A0-97DA-A55AFB06D046}" type="slidenum">
              <a:rPr b="0" lang="sk-SK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Klucova tema = datovy manaz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Freeform 2"/>
          <p:cNvSpPr/>
          <p:nvPr/>
        </p:nvSpPr>
        <p:spPr>
          <a:xfrm>
            <a:off x="3884760" y="8685360"/>
            <a:ext cx="2971800" cy="4586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16FAB8-9C9D-4B36-B83B-905A412DD2DC}" type="slidenum">
              <a:rPr b="0" lang="sk-SK" sz="1800" spc="-1" strike="noStrike">
                <a:solidFill>
                  <a:srgbClr val="263c8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A3583D-7BD0-46E3-82BB-1C1DD370E0CD}" type="slidenum">
              <a:rPr b="0" lang="sk-SK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Klucova tema = datovy manaz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Freeform 3"/>
          <p:cNvSpPr/>
          <p:nvPr/>
        </p:nvSpPr>
        <p:spPr>
          <a:xfrm>
            <a:off x="3884760" y="8685360"/>
            <a:ext cx="2971800" cy="4586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1FD961-684D-4D47-89C8-E02BD5252A6E}" type="slidenum">
              <a:rPr b="0" lang="sk-SK" sz="1800" spc="-1" strike="noStrike">
                <a:solidFill>
                  <a:srgbClr val="263c8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5DFECA-479B-4CED-881A-72DDBF900F06}" type="slidenum">
              <a:rPr b="0" lang="sk-SK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Klucova tema = datovy manaz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Freeform 2"/>
          <p:cNvSpPr/>
          <p:nvPr/>
        </p:nvSpPr>
        <p:spPr>
          <a:xfrm>
            <a:off x="3884760" y="8685360"/>
            <a:ext cx="2971800" cy="4586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1E2BBC-00FE-41A3-AE0E-78A1C67781A2}" type="slidenum">
              <a:rPr b="0" lang="sk-SK" sz="1800" spc="-1" strike="noStrike">
                <a:solidFill>
                  <a:srgbClr val="263c8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B51CDB-216F-4EAB-BA6E-FD1CE164B082}" type="slidenum">
              <a:rPr b="0" lang="sk-SK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Klucova tema = datovy manaz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Freeform 2"/>
          <p:cNvSpPr/>
          <p:nvPr/>
        </p:nvSpPr>
        <p:spPr>
          <a:xfrm>
            <a:off x="3884760" y="8685360"/>
            <a:ext cx="2971800" cy="4586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030DE9-2381-4D31-B7B9-B64417D1E14E}" type="slidenum">
              <a:rPr b="0" lang="sk-SK" sz="1800" spc="-1" strike="noStrike">
                <a:solidFill>
                  <a:srgbClr val="263c8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C1D318-5E5F-48E8-8F83-F6E956EB5C6C}" type="slidenum">
              <a:rPr b="0" lang="sk-SK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Klucova tema = datovy manaz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Freeform 2"/>
          <p:cNvSpPr/>
          <p:nvPr/>
        </p:nvSpPr>
        <p:spPr>
          <a:xfrm>
            <a:off x="3884760" y="8685360"/>
            <a:ext cx="2971800" cy="4586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8573BB-1CA2-4A32-9582-E6FC79B3FBFF}" type="slidenum">
              <a:rPr b="0" lang="sk-SK" sz="1800" spc="-1" strike="noStrike">
                <a:solidFill>
                  <a:srgbClr val="263c8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5BCB30-4099-436D-AA00-434A589967D1}" type="slidenum">
              <a:rPr b="0" lang="sk-SK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Klucova tema = datovy manaz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Freeform 2"/>
          <p:cNvSpPr/>
          <p:nvPr/>
        </p:nvSpPr>
        <p:spPr>
          <a:xfrm>
            <a:off x="3884760" y="8685360"/>
            <a:ext cx="2971800" cy="4586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45631A-D746-4776-B9BD-68D442E25F79}" type="slidenum">
              <a:rPr b="0" lang="sk-SK" sz="1800" spc="-1" strike="noStrike">
                <a:solidFill>
                  <a:srgbClr val="263c8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07AD7A-92A5-437C-AB37-CD546F15666E}" type="slidenum">
              <a:rPr b="0" lang="sk-SK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Klucova tema = datovy manaz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Freeform 2"/>
          <p:cNvSpPr/>
          <p:nvPr/>
        </p:nvSpPr>
        <p:spPr>
          <a:xfrm>
            <a:off x="3884760" y="8685360"/>
            <a:ext cx="2971800" cy="4586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48C8E7-4BA6-4F09-A1ED-D3937567DC68}" type="slidenum">
              <a:rPr b="0" lang="sk-SK" sz="1800" spc="-1" strike="noStrike">
                <a:solidFill>
                  <a:srgbClr val="263c8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C2EEFA-6A3F-4941-8D9B-F7141D553831}" type="slidenum">
              <a:rPr b="0" lang="sk-SK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Klucova tema = datovy manaz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Freeform 2"/>
          <p:cNvSpPr/>
          <p:nvPr/>
        </p:nvSpPr>
        <p:spPr>
          <a:xfrm>
            <a:off x="3884760" y="8685360"/>
            <a:ext cx="2971800" cy="4586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778004-CEF0-43C5-B6E6-CED16CDD28F2}" type="slidenum">
              <a:rPr b="0" lang="sk-SK" sz="1800" spc="-1" strike="noStrike">
                <a:solidFill>
                  <a:srgbClr val="263c8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1C3A77-ABED-4A9B-AB6E-755893C5F107}" type="slidenum">
              <a:rPr b="0" lang="sk-SK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Klucova tema = datovy manaz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Freeform 2"/>
          <p:cNvSpPr/>
          <p:nvPr/>
        </p:nvSpPr>
        <p:spPr>
          <a:xfrm>
            <a:off x="3884760" y="8685360"/>
            <a:ext cx="2971800" cy="4586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5CC86E-6A0E-4A5D-B8F7-5AA6C05DD277}" type="slidenum">
              <a:rPr b="0" lang="sk-SK" sz="1800" spc="-1" strike="noStrike">
                <a:solidFill>
                  <a:srgbClr val="263c8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09480" y="39682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23160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31928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802872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0948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431928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802872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2720" cy="61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3160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09480" y="39682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23160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31928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802872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60948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431928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802872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2720" cy="61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23160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3c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1440" y="0"/>
            <a:ext cx="121874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2"/>
          <p:cNvSpPr/>
          <p:nvPr/>
        </p:nvSpPr>
        <p:spPr>
          <a:xfrm>
            <a:off x="0" y="6176880"/>
            <a:ext cx="12192120" cy="68112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3" descr=""/>
          <p:cNvPicPr/>
          <p:nvPr/>
        </p:nvPicPr>
        <p:blipFill>
          <a:blip r:embed="rId3"/>
          <a:stretch/>
        </p:blipFill>
        <p:spPr>
          <a:xfrm>
            <a:off x="641520" y="6269040"/>
            <a:ext cx="2377800" cy="452520"/>
          </a:xfrm>
          <a:prstGeom prst="rect">
            <a:avLst/>
          </a:prstGeom>
          <a:ln w="0">
            <a:noFill/>
          </a:ln>
        </p:spPr>
      </p:pic>
      <p:sp>
        <p:nvSpPr>
          <p:cNvPr id="3" name="Rectangle 4"/>
          <p:cNvSpPr/>
          <p:nvPr/>
        </p:nvSpPr>
        <p:spPr>
          <a:xfrm>
            <a:off x="69231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+ 421 2 2092 8xxx kontakt@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5"/>
          <p:cNvSpPr/>
          <p:nvPr/>
        </p:nvSpPr>
        <p:spPr>
          <a:xfrm>
            <a:off x="93027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Štefánikova 15 - 011 05 Bratislava www.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6" descr=""/>
          <p:cNvPicPr/>
          <p:nvPr/>
        </p:nvPicPr>
        <p:blipFill>
          <a:blip r:embed="rId4"/>
          <a:stretch/>
        </p:blipFill>
        <p:spPr>
          <a:xfrm>
            <a:off x="1440" y="0"/>
            <a:ext cx="12187440" cy="6858000"/>
          </a:xfrm>
          <a:prstGeom prst="rect">
            <a:avLst/>
          </a:prstGeom>
          <a:ln w="0">
            <a:noFill/>
          </a:ln>
        </p:spPr>
      </p:pic>
      <p:sp>
        <p:nvSpPr>
          <p:cNvPr id="6" name="Rectangle 7"/>
          <p:cNvSpPr/>
          <p:nvPr/>
        </p:nvSpPr>
        <p:spPr>
          <a:xfrm>
            <a:off x="0" y="4281480"/>
            <a:ext cx="12192120" cy="257652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8"/>
          <p:cNvSpPr/>
          <p:nvPr/>
        </p:nvSpPr>
        <p:spPr>
          <a:xfrm flipH="1">
            <a:off x="11139120" y="6197760"/>
            <a:ext cx="343080" cy="1440"/>
          </a:xfrm>
          <a:prstGeom prst="line">
            <a:avLst/>
          </a:prstGeom>
          <a:ln w="38160">
            <a:solidFill>
              <a:srgbClr val="ed1c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9" descr=""/>
          <p:cNvPicPr/>
          <p:nvPr/>
        </p:nvPicPr>
        <p:blipFill>
          <a:blip r:embed="rId5"/>
          <a:stretch/>
        </p:blipFill>
        <p:spPr>
          <a:xfrm>
            <a:off x="490680" y="4938840"/>
            <a:ext cx="3284280" cy="59688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"/>
          <p:cNvPicPr/>
          <p:nvPr/>
        </p:nvPicPr>
        <p:blipFill>
          <a:blip r:embed="rId2"/>
          <a:stretch/>
        </p:blipFill>
        <p:spPr>
          <a:xfrm>
            <a:off x="1440" y="0"/>
            <a:ext cx="1218744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2"/>
          <p:cNvSpPr/>
          <p:nvPr/>
        </p:nvSpPr>
        <p:spPr>
          <a:xfrm>
            <a:off x="0" y="6176880"/>
            <a:ext cx="12192120" cy="68112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3"/>
          <a:stretch/>
        </p:blipFill>
        <p:spPr>
          <a:xfrm>
            <a:off x="641520" y="6269040"/>
            <a:ext cx="2377800" cy="4525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69231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+ 421 2 2092 8xxx kontakt@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93027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Štefánikova 15 - 011 05 Bratislava www.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"/>
          <p:cNvPicPr/>
          <p:nvPr/>
        </p:nvPicPr>
        <p:blipFill>
          <a:blip r:embed="rId4"/>
          <a:stretch/>
        </p:blipFill>
        <p:spPr>
          <a:xfrm>
            <a:off x="641520" y="6269040"/>
            <a:ext cx="2377800" cy="45252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8"/>
          <p:cNvSpPr/>
          <p:nvPr/>
        </p:nvSpPr>
        <p:spPr>
          <a:xfrm>
            <a:off x="93027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Štefánikova 15 - 011 05 Bratislava www.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9"/>
          <p:cNvSpPr/>
          <p:nvPr/>
        </p:nvSpPr>
        <p:spPr>
          <a:xfrm flipH="1">
            <a:off x="5746320" y="25560"/>
            <a:ext cx="700200" cy="1440"/>
          </a:xfrm>
          <a:prstGeom prst="line">
            <a:avLst/>
          </a:prstGeom>
          <a:ln w="57240">
            <a:solidFill>
              <a:srgbClr val="ed1c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"/>
          <p:cNvSpPr/>
          <p:nvPr/>
        </p:nvSpPr>
        <p:spPr>
          <a:xfrm flipH="1">
            <a:off x="-3600" y="1844640"/>
            <a:ext cx="700200" cy="1800"/>
          </a:xfrm>
          <a:prstGeom prst="line">
            <a:avLst/>
          </a:prstGeom>
          <a:ln w="57240">
            <a:solidFill>
              <a:srgbClr val="d1d3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1"/>
          <p:cNvSpPr/>
          <p:nvPr/>
        </p:nvSpPr>
        <p:spPr>
          <a:xfrm flipH="1">
            <a:off x="11495160" y="4626000"/>
            <a:ext cx="699840" cy="1440"/>
          </a:xfrm>
          <a:prstGeom prst="line">
            <a:avLst/>
          </a:prstGeom>
          <a:ln w="57240">
            <a:solidFill>
              <a:srgbClr val="d1d3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drive.google.com/drive/folders/1CWhn1jsJIbToFIoX1KyRSJCPtbAHp5Dd?usp=sharing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informatizacia.sk/Aktu&#225;lne%20v&#253;zvy/26920s" TargetMode="External"/><Relationship Id="rId2" Type="http://schemas.openxmlformats.org/officeDocument/2006/relationships/hyperlink" Target="http://www.informatizacia.sk/ext_dok-dv_opii_2018_7_3_manazment_udajov_final/27097c" TargetMode="Externa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3c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reeform 1"/>
          <p:cNvSpPr/>
          <p:nvPr/>
        </p:nvSpPr>
        <p:spPr>
          <a:xfrm>
            <a:off x="7272360" y="4867200"/>
            <a:ext cx="4235400" cy="3715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64000"/>
          </a:bodyPr>
          <a:p>
            <a:pPr>
              <a:lnSpc>
                <a:spcPct val="90000"/>
              </a:lnSpc>
              <a:spcBef>
                <a:spcPts val="100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sap"/>
              </a:rPr>
              <a:t>Dátoví kurátori S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reeform 2"/>
          <p:cNvSpPr/>
          <p:nvPr/>
        </p:nvSpPr>
        <p:spPr>
          <a:xfrm>
            <a:off x="7272360" y="5251320"/>
            <a:ext cx="4235400" cy="3715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73000"/>
          </a:bodyPr>
          <a:p>
            <a:pPr marL="2160">
              <a:lnSpc>
                <a:spcPct val="90000"/>
              </a:lnSpc>
              <a:spcBef>
                <a:spcPts val="100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800" spc="-1" strike="noStrike">
                <a:solidFill>
                  <a:srgbClr val="808080"/>
                </a:solidFill>
                <a:latin typeface="Asap"/>
              </a:rPr>
              <a:t>11.12.2018 – 11: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reeform 3"/>
          <p:cNvSpPr/>
          <p:nvPr/>
        </p:nvSpPr>
        <p:spPr>
          <a:xfrm>
            <a:off x="7272360" y="5630760"/>
            <a:ext cx="4235400" cy="3715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72000"/>
          </a:bodyPr>
          <a:p>
            <a:pPr marL="2160">
              <a:lnSpc>
                <a:spcPct val="90000"/>
              </a:lnSpc>
              <a:spcBef>
                <a:spcPts val="100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800" spc="-1" strike="noStrike">
                <a:solidFill>
                  <a:srgbClr val="808080"/>
                </a:solidFill>
                <a:latin typeface="Asap"/>
              </a:rPr>
              <a:t>ÚSVROS/ Cukrová 14 Bratisl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Obrázok 1" descr=""/>
          <p:cNvPicPr/>
          <p:nvPr/>
        </p:nvPicPr>
        <p:blipFill>
          <a:blip r:embed="rId1"/>
          <a:stretch/>
        </p:blipFill>
        <p:spPr>
          <a:xfrm>
            <a:off x="4008600" y="4653000"/>
            <a:ext cx="2612880" cy="166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1"/>
          <p:cNvSpPr/>
          <p:nvPr/>
        </p:nvSpPr>
        <p:spPr>
          <a:xfrm>
            <a:off x="3014640" y="603360"/>
            <a:ext cx="6162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263c80"/>
                </a:solidFill>
                <a:latin typeface="Asap"/>
              </a:rPr>
              <a:t>Oblasť s najväčšou pridanou hodnot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2"/>
          <p:cNvSpPr/>
          <p:nvPr/>
        </p:nvSpPr>
        <p:spPr>
          <a:xfrm>
            <a:off x="2165400" y="446040"/>
            <a:ext cx="8994600" cy="5527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rmAutofit/>
          </a:bodyPr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6. fungovanie tejto neformálnej skupi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Ďalšie stretnutie </a:t>
            </a:r>
            <a:r>
              <a:rPr b="0" lang="sk-SK" sz="2400" spc="-1" strike="noStrike">
                <a:solidFill>
                  <a:srgbClr val="ffff00"/>
                </a:solidFill>
                <a:latin typeface="Arial"/>
              </a:rPr>
              <a:t>– už pracovné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00"/>
                </a:solidFill>
                <a:latin typeface="Arial"/>
              </a:rPr>
              <a:t>15.01.2019 – </a:t>
            </a:r>
            <a:r>
              <a:rPr b="0" lang="sk-SK" sz="2400" spc="-1" strike="noStrike" u="sng">
                <a:solidFill>
                  <a:srgbClr val="ffff00"/>
                </a:solidFill>
                <a:uFillTx/>
                <a:latin typeface="Arial"/>
              </a:rPr>
              <a:t>miesto a čas upresním v pozván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ffffff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Program druhého stretnutia (3 témy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704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7040">
              <a:lnSpc>
                <a:spcPct val="93000"/>
              </a:lnSpc>
              <a:buClr>
                <a:srgbClr val="ffffff"/>
              </a:buClr>
              <a:buSzPct val="45000"/>
              <a:buFont typeface="Arial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ffff00"/>
                </a:solidFill>
                <a:latin typeface="Arial"/>
              </a:rPr>
              <a:t>Popis práce, kompetencií,... Dátového kuráto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704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Základný materiá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704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https://docs.google.com/document/d/1EYoBdLyICHmVVDI5ftjFs-SMyTicWMOcwwzRFuaYbvA/edit#heading=h.gjdgx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704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7040">
              <a:lnSpc>
                <a:spcPct val="93000"/>
              </a:lnSpc>
              <a:buClr>
                <a:srgbClr val="ffffff"/>
              </a:buClr>
              <a:buSzPct val="45000"/>
              <a:buFont typeface="Arial"/>
              <a:buAutoNum type="arabicPeriod" startAt="2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ffff00"/>
                </a:solidFill>
                <a:latin typeface="Arial"/>
              </a:rPr>
              <a:t>Predstavenie dopytovej výzvy na manažment dát – 2. ko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7040">
              <a:lnSpc>
                <a:spcPct val="93000"/>
              </a:lnSpc>
              <a:buClr>
                <a:srgbClr val="ffffff"/>
              </a:buClr>
              <a:buSzPct val="45000"/>
              <a:buFont typeface="Arial"/>
              <a:buAutoNum type="arabicPeriod" startAt="2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ffff00"/>
                </a:solidFill>
                <a:latin typeface="Arial"/>
              </a:rPr>
              <a:t>Riešenie prioritných otázok/ úloh z uznesení vlády S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7040">
              <a:lnSpc>
                <a:spcPct val="93000"/>
              </a:lnSpc>
              <a:buClr>
                <a:srgbClr val="ffffff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Obrázok 3" descr=""/>
          <p:cNvPicPr/>
          <p:nvPr/>
        </p:nvPicPr>
        <p:blipFill>
          <a:blip r:embed="rId1"/>
          <a:stretch/>
        </p:blipFill>
        <p:spPr>
          <a:xfrm>
            <a:off x="10201320" y="0"/>
            <a:ext cx="1992240" cy="126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1"/>
          <p:cNvSpPr/>
          <p:nvPr/>
        </p:nvSpPr>
        <p:spPr>
          <a:xfrm>
            <a:off x="3014640" y="603360"/>
            <a:ext cx="6162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263c80"/>
                </a:solidFill>
                <a:latin typeface="Asap"/>
              </a:rPr>
              <a:t>Oblasť s najväčšou pridanou hodnot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reeform 2"/>
          <p:cNvSpPr/>
          <p:nvPr/>
        </p:nvSpPr>
        <p:spPr>
          <a:xfrm>
            <a:off x="2165400" y="446040"/>
            <a:ext cx="8994600" cy="5527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Progra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1. základné informácie + aktualizácia kontakt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2. oboznámenie so skupinou K 9.4 Lepšie dá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3. Zákon o údajo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4. dopytové výzvy - plán, úpr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5. plnenie úloh 3 strategických dokument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6. fungovanie tejto neformálnej skupi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Obrázok 1" descr=""/>
          <p:cNvPicPr/>
          <p:nvPr/>
        </p:nvPicPr>
        <p:blipFill>
          <a:blip r:embed="rId1"/>
          <a:stretch/>
        </p:blipFill>
        <p:spPr>
          <a:xfrm>
            <a:off x="10201320" y="0"/>
            <a:ext cx="1992240" cy="126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014640" y="603360"/>
            <a:ext cx="6162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263c80"/>
                </a:solidFill>
                <a:latin typeface="Asap"/>
              </a:rPr>
              <a:t>Oblasť s najväčšou pridanou hodnot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reeform 2"/>
          <p:cNvSpPr/>
          <p:nvPr/>
        </p:nvSpPr>
        <p:spPr>
          <a:xfrm>
            <a:off x="2525760" y="287280"/>
            <a:ext cx="8994600" cy="5527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1. základné informácie + aktualizácia kontaktov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.. neformálna skupina, ktorá združuje dátových kurátorov S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.. vzájomná pomoc a výmena skúseností pri plnení úloh strategických dokumentov (ÚPPVII, ÚSVROS, NASES,.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.. tvorba požiadaviek voči iným PS a voči Zákonu o dát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Zdieľaný fol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s://drive.google.com/drive/folders/1CWhn1jsJIbToFIoX1KyRSJCPtbAHp5Dd?usp=sharing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Obrázok 3" descr=""/>
          <p:cNvPicPr/>
          <p:nvPr/>
        </p:nvPicPr>
        <p:blipFill>
          <a:blip r:embed="rId2"/>
          <a:stretch/>
        </p:blipFill>
        <p:spPr>
          <a:xfrm>
            <a:off x="10201320" y="0"/>
            <a:ext cx="1992240" cy="126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1"/>
          <p:cNvSpPr/>
          <p:nvPr/>
        </p:nvSpPr>
        <p:spPr>
          <a:xfrm>
            <a:off x="3014640" y="603360"/>
            <a:ext cx="6162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263c80"/>
                </a:solidFill>
                <a:latin typeface="Asap"/>
              </a:rPr>
              <a:t>Oblasť s najväčšou pridanou hodnot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reeform 2"/>
          <p:cNvSpPr/>
          <p:nvPr/>
        </p:nvSpPr>
        <p:spPr>
          <a:xfrm>
            <a:off x="2525760" y="287280"/>
            <a:ext cx="8994600" cy="5527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Obrázok 3" descr=""/>
          <p:cNvPicPr/>
          <p:nvPr/>
        </p:nvPicPr>
        <p:blipFill>
          <a:blip r:embed="rId1"/>
          <a:stretch/>
        </p:blipFill>
        <p:spPr>
          <a:xfrm>
            <a:off x="10201320" y="0"/>
            <a:ext cx="1992240" cy="1268280"/>
          </a:xfrm>
          <a:prstGeom prst="rect">
            <a:avLst/>
          </a:prstGeom>
          <a:ln w="0">
            <a:noFill/>
          </a:ln>
        </p:spPr>
      </p:pic>
      <p:pic>
        <p:nvPicPr>
          <p:cNvPr id="116" name="Obrázok 2" descr=""/>
          <p:cNvPicPr/>
          <p:nvPr/>
        </p:nvPicPr>
        <p:blipFill>
          <a:blip r:embed="rId2"/>
          <a:stretch/>
        </p:blipFill>
        <p:spPr>
          <a:xfrm>
            <a:off x="1743120" y="0"/>
            <a:ext cx="8458200" cy="634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1"/>
          <p:cNvSpPr/>
          <p:nvPr/>
        </p:nvSpPr>
        <p:spPr>
          <a:xfrm>
            <a:off x="3014640" y="603360"/>
            <a:ext cx="6162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263c80"/>
                </a:solidFill>
                <a:latin typeface="Asap"/>
              </a:rPr>
              <a:t>Oblasť s najväčšou pridanou hodnot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reeform 2"/>
          <p:cNvSpPr/>
          <p:nvPr/>
        </p:nvSpPr>
        <p:spPr>
          <a:xfrm>
            <a:off x="2143080" y="434880"/>
            <a:ext cx="8994960" cy="5527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rmAutofit fontScale="99000"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2. oboznámenie so skupinou K 9.4 Lepšie dá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- poradná skupina ÚPPV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- z verejnej správy, podnikateľského aj neziskového sekt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- vytvára podskupin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1. Open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2. My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3. Zákon o údajo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4. Dopytové výz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5. Referenčné údaje / 1* a dos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6. Big data / analytické využitie dá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https://drive.google.com/drive/folders/1htkLkndUppCv469v6WZFwL7LBK9CUj9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Obrázok 3" descr=""/>
          <p:cNvPicPr/>
          <p:nvPr/>
        </p:nvPicPr>
        <p:blipFill>
          <a:blip r:embed="rId1"/>
          <a:stretch/>
        </p:blipFill>
        <p:spPr>
          <a:xfrm>
            <a:off x="10201320" y="0"/>
            <a:ext cx="1992240" cy="126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1"/>
          <p:cNvSpPr/>
          <p:nvPr/>
        </p:nvSpPr>
        <p:spPr>
          <a:xfrm>
            <a:off x="3014640" y="603360"/>
            <a:ext cx="6162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263c80"/>
                </a:solidFill>
                <a:latin typeface="Asap"/>
              </a:rPr>
              <a:t>Oblasť s najväčšou pridanou hodnot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Freeform 2"/>
          <p:cNvSpPr/>
          <p:nvPr/>
        </p:nvSpPr>
        <p:spPr>
          <a:xfrm>
            <a:off x="2165400" y="446040"/>
            <a:ext cx="8994600" cy="5527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rmAutofit fontScale="97000"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3. Zákon o údajo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Návrh zákona má byť predložený do 31.12.2019 na rokovanie vlády SR (úloha AP OG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Pracovná skupina začína činnosť v januári 2019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https://drive.google.com/drive/folders/18U3D3JPxYdGNz0qdEKCdubFGHs7Xmt4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vaše vstupy? -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https://docs.google.com/spreadsheets/d/14n3B0vFrFVi4dbcOloAHdgK9px5v6vCYqdFjY8Uw9bE/edit#gid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Obrázok 3" descr=""/>
          <p:cNvPicPr/>
          <p:nvPr/>
        </p:nvPicPr>
        <p:blipFill>
          <a:blip r:embed="rId1"/>
          <a:stretch/>
        </p:blipFill>
        <p:spPr>
          <a:xfrm>
            <a:off x="10201320" y="0"/>
            <a:ext cx="1992240" cy="126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1"/>
          <p:cNvSpPr/>
          <p:nvPr/>
        </p:nvSpPr>
        <p:spPr>
          <a:xfrm>
            <a:off x="3014640" y="603360"/>
            <a:ext cx="6162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263c80"/>
                </a:solidFill>
                <a:latin typeface="Asap"/>
              </a:rPr>
              <a:t>Oblasť s najväčšou pridanou hodnot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Freeform 2"/>
          <p:cNvSpPr/>
          <p:nvPr/>
        </p:nvSpPr>
        <p:spPr>
          <a:xfrm>
            <a:off x="2165400" y="446040"/>
            <a:ext cx="8994600" cy="5527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rmAutofit fontScale="99000"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4. dopytové výzvy - plán, úprav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* Dopytová výzva na </a:t>
            </a:r>
            <a:r>
              <a:rPr b="0" lang="sk-SK" sz="2400" spc="-1" strike="noStrike">
                <a:solidFill>
                  <a:srgbClr val="ffff00"/>
                </a:solidFill>
                <a:latin typeface="Arial"/>
              </a:rPr>
              <a:t>manažment údajov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Prvé kolo uzávierka 14.12.20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Druhé kolo uzávierka 14.03.20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www.informatizacia.sk/Aktu%C3%A1lne%20v%C3%BDzvy/26920s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www.informatizacia.sk/ext_dok-dv_opii_2018_7_3_manazment_udajov_final/27097c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* príprava ďalších výziev v oblasti dá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Na využitie open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Obrázok 3" descr=""/>
          <p:cNvPicPr/>
          <p:nvPr/>
        </p:nvPicPr>
        <p:blipFill>
          <a:blip r:embed="rId3"/>
          <a:stretch/>
        </p:blipFill>
        <p:spPr>
          <a:xfrm>
            <a:off x="10201320" y="0"/>
            <a:ext cx="1992240" cy="126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1"/>
          <p:cNvSpPr/>
          <p:nvPr/>
        </p:nvSpPr>
        <p:spPr>
          <a:xfrm>
            <a:off x="2079720" y="1549440"/>
            <a:ext cx="8032680" cy="28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9900" spc="-1" strike="noStrike">
                <a:solidFill>
                  <a:srgbClr val="263c80"/>
                </a:solidFill>
                <a:latin typeface="Arial Black"/>
              </a:rPr>
              <a:t>DÁTA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2"/>
          <p:cNvSpPr/>
          <p:nvPr/>
        </p:nvSpPr>
        <p:spPr>
          <a:xfrm>
            <a:off x="3014640" y="603360"/>
            <a:ext cx="6162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263c80"/>
                </a:solidFill>
                <a:latin typeface="Asap"/>
              </a:rPr>
              <a:t>Oblasť s najväčšou pridanou hodnot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reeform 3"/>
          <p:cNvSpPr/>
          <p:nvPr/>
        </p:nvSpPr>
        <p:spPr>
          <a:xfrm>
            <a:off x="2165400" y="446040"/>
            <a:ext cx="8994600" cy="5527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rmAutofit fontScale="99000"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5. plnenie úloh 3 strategických dokument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NKIVS, OGP, Stratégia... + iné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Ku ktorým potrebujete poradiť, usmerniť,...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https://docs.google.com/spreadsheets/d/1LAgioFdZMFZMXaY05rJ0hCFxkoRiYjmVrFZv5nUz-Ho/edit#gid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Prehľad neuzavretých úlo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https://docs.google.com/spreadsheets/d/1kEw4NZtOMTDsxQ7-lRSXi9mfAA7teKHIUtLhZTkC16I/edit#gid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Obrázok 4" descr=""/>
          <p:cNvPicPr/>
          <p:nvPr/>
        </p:nvPicPr>
        <p:blipFill>
          <a:blip r:embed="rId1"/>
          <a:stretch/>
        </p:blipFill>
        <p:spPr>
          <a:xfrm>
            <a:off x="10201320" y="0"/>
            <a:ext cx="1992240" cy="126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1"/>
          <p:cNvSpPr/>
          <p:nvPr/>
        </p:nvSpPr>
        <p:spPr>
          <a:xfrm>
            <a:off x="3014640" y="603360"/>
            <a:ext cx="6162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263c80"/>
                </a:solidFill>
                <a:latin typeface="Asap"/>
              </a:rPr>
              <a:t>Oblasť s najväčšou pridanou hodnot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reeform 2"/>
          <p:cNvSpPr/>
          <p:nvPr/>
        </p:nvSpPr>
        <p:spPr>
          <a:xfrm>
            <a:off x="2165400" y="446040"/>
            <a:ext cx="8994600" cy="5527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rmAutofit/>
          </a:bodyPr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6. fungovanie tejto neformálnej skupi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Pravidelnosť stretnutí? </a:t>
            </a:r>
            <a:r>
              <a:rPr b="0" lang="sk-SK" sz="2400" spc="-1" strike="noStrike">
                <a:solidFill>
                  <a:srgbClr val="ffff00"/>
                </a:solidFill>
                <a:latin typeface="Arial"/>
              </a:rPr>
              <a:t>– raz za 3 mesi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Online zdieľanie informácií – </a:t>
            </a:r>
            <a:r>
              <a:rPr b="0" lang="sk-SK" sz="2400" spc="-1" strike="noStrike">
                <a:solidFill>
                  <a:srgbClr val="ffff00"/>
                </a:solidFill>
                <a:latin typeface="Arial"/>
              </a:rPr>
              <a:t>dočasne horeuvádzaný Drive s cieľom online kolaborácie, kým Dátová kancelária nespustí svoju webstránku (predpoklad 1/201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Kontaktná osoba: </a:t>
            </a:r>
            <a:r>
              <a:rPr b="0" lang="sk-SK" sz="2400" spc="-1" strike="noStrike">
                <a:solidFill>
                  <a:srgbClr val="ffff00"/>
                </a:solidFill>
                <a:latin typeface="Arial"/>
              </a:rPr>
              <a:t>Milan Andrejkovi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Obrázok 3" descr=""/>
          <p:cNvPicPr/>
          <p:nvPr/>
        </p:nvPicPr>
        <p:blipFill>
          <a:blip r:embed="rId1"/>
          <a:stretch/>
        </p:blipFill>
        <p:spPr>
          <a:xfrm>
            <a:off x="10201320" y="0"/>
            <a:ext cx="1992240" cy="1268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lan Andrejkovič</dc:creator>
  <dc:description/>
  <dc:language>en-US</dc:language>
  <cp:lastModifiedBy>Milan Andrejkovič</cp:lastModifiedBy>
  <dcterms:modified xsi:type="dcterms:W3CDTF">2018-12-12T08:21:14Z</dcterms:modified>
  <cp:revision>8</cp:revision>
  <dc:subject/>
  <dc:title>Prezentácia programu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dlc_DocId">
    <vt:lpwstr>CTYWSUCD3UHA-699772915-131</vt:lpwstr>
  </property>
  <property fmtid="{D5CDD505-2E9C-101B-9397-08002B2CF9AE}" pid="3" name="_dlc_DocIdItemGuid">
    <vt:lpwstr>ef4e5afc-8b0e-42f9-9081-e35c73d5bfca</vt:lpwstr>
  </property>
  <property fmtid="{D5CDD505-2E9C-101B-9397-08002B2CF9AE}" pid="4" name="_dlc_DocIdUrl">
    <vt:lpwstr>https://sp.finance.gov.sk/lepsie-data/_layouts/15/DocIdRedir.aspx?ID=CTYWSUCD3UHA-699772915-131, CTYWSUCD3UHA-699772915-131</vt:lpwstr>
  </property>
</Properties>
</file>